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EEE-AEAC-4958-8098-01881D7C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719-661A-4F1C-93C2-EE67BCA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3C2-E34E-4345-A5B1-CCDA6A9B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BB8-8CA1-4D89-A968-8015573A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7CD-7D10-4F4C-ACAC-28412C1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380-892A-4A06-AE49-20A2593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EEF-06E7-4DF6-B5A4-8C7C5E8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146-9BD0-4B5E-A28F-F549F135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810-60FC-4744-AED1-AEE5032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DC4-66FC-44CD-8342-6547746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EC5-7839-4246-BCC3-7A501A9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33F-2E4B-4CBD-89D0-D8E5FF6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85B-D509-49D5-9185-AFA970BECF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476280"/>
            <a:ext cx="8424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LANs - HW and S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2133720"/>
            <a:ext cx="5111640" cy="43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y the end of this section, you will know and understand the hardware and software involved in making a L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49440" y="2708280"/>
            <a:ext cx="6985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18900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File Server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341360"/>
            <a:ext cx="8424720" cy="5043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compu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werf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other computers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a large amount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M and Hard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the networ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.g. Microsoft Office Su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r fi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reated on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33336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twork Interface Card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5256000" cy="401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so known as 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computer MUST have one of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communicates with the file server and other computers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45240" y="1944720"/>
            <a:ext cx="321948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04000" y="4941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RJ-45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twork Cables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00280"/>
            <a:ext cx="4824360" cy="42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se plug into the back of each computer and link them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y go straight into the Network Interface Card inside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603576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n RJ-45 cable, otherwise known as an Ethernet 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5290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333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witches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557360"/>
            <a:ext cx="5256000" cy="4989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switch is a single connection point for a group of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witch is then connected to the file server and organises the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needed with all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635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40464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WANs HW and S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916280"/>
            <a:ext cx="5111640" cy="43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y the end of this section, you will know and understand the hardware and software involved in making a W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49440" y="2708280"/>
            <a:ext cx="6985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360"/>
            <a:ext cx="59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Modem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00280"/>
            <a:ext cx="7632720" cy="450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s for Modulator – Demod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reated to take digital signals from a computer and convert them to analogue so that they can be transmitted down a telephon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 at which a modem operates will affect the download time of web pages and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720" y="-171360"/>
            <a:ext cx="2050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SP - Internet Service Provide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700280"/>
            <a:ext cx="6480000" cy="495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SP sells Internet access to companies an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provides web servers which connect to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SP will provide it’s customers with a wide range of serv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dwidth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il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Ho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and Telephone as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2016360" cy="1076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2016360" cy="122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0" b="62572"/>
          <a:stretch/>
        </p:blipFill>
        <p:spPr>
          <a:xfrm>
            <a:off x="6948360" y="4292640"/>
            <a:ext cx="2035440" cy="789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Browser Softwar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700280"/>
            <a:ext cx="6696000" cy="51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 software allows users to view and use the web pages on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ddress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avigation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ookmark/Favourites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arch En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story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wser Setting and Internet Options e.g. Fil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64360" y="1700280"/>
            <a:ext cx="102384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11145" t="13283" r="11145" b="13283"/>
          <a:stretch/>
        </p:blipFill>
        <p:spPr>
          <a:xfrm>
            <a:off x="8028000" y="2997360"/>
            <a:ext cx="1116000" cy="105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4360" y="40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885080" y="5373720"/>
            <a:ext cx="1077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1:50:37Z</dcterms:created>
  <dc:creator>cbelshaw438</dc:creator>
  <dc:description/>
  <dc:language>en-US</dc:language>
  <cp:lastModifiedBy>debs</cp:lastModifiedBy>
  <dcterms:modified xsi:type="dcterms:W3CDTF">2008-05-29T15:18:10Z</dcterms:modified>
  <cp:revision>27</cp:revision>
  <dc:subject/>
  <dc:title>Slide 1</dc:title>
</cp:coreProperties>
</file>